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4540-70F2-4DF6-934F-14D5237E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84C-63D5-4A4E-8200-F97601CD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5AB-1B14-4378-8AAB-7D0E72B5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4484-A108-46BC-8F75-33C3F21A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F71B-3DFB-44FC-AD09-30E20094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824D-DC4C-46A1-9380-F91B5D67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B0C7-F339-4411-BF6C-0D73C037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6DF7-741F-4A14-B1C3-539E8567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5318-2791-4675-82EB-35606C6D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E55F-E0E4-46BE-B610-3D2ABE63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3BB5-96D7-4A43-9E2D-6A0C159E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D716-F35F-451A-B0E4-AD60B0DA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C76F-1103-4AD7-A0D5-3347FE211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alibri"/>
              </a:rPr>
              <a:t>Factors that Affect Climat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5800" y="1247760"/>
            <a:ext cx="7848720" cy="553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7086600" cy="531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n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523880" y="1492200"/>
            <a:ext cx="5867640" cy="4908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7010280" cy="3504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7120" y="380880"/>
            <a:ext cx="6093000" cy="6093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7162920" cy="5372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7772400" cy="5173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71600" y="5181480"/>
            <a:ext cx="762120" cy="685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5791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4:41:55Z</dcterms:created>
  <dc:creator>Customer</dc:creator>
  <dc:description/>
  <dc:language>en-US</dc:language>
  <cp:lastModifiedBy>OCDSB User</cp:lastModifiedBy>
  <dcterms:modified xsi:type="dcterms:W3CDTF">2012-04-17T15:32:45Z</dcterms:modified>
  <cp:revision>12</cp:revision>
  <dc:subject/>
  <dc:title>Slide 1</dc:title>
</cp:coreProperties>
</file>